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gif" ContentType="image/gif"/>
  <Override PartName="/ppt/media/image3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7.gif" ContentType="image/gif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CA9-6C87-432F-B20A-FD2F8C0C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697-7AF0-43C4-9EF8-DE034CFF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97E-BF2B-4E6A-9CD6-2434E999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F58-265C-4E41-83BC-21011A58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22F-A0D8-4641-B984-5F6C97BF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5B6-8054-4F07-AB4D-6D0CA02C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E57-D0C2-4E85-B412-05CFC2F6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97B-93A7-4F9D-8B9D-4B7FA039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725-E438-4A3F-9AB7-DF1D06D8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7AB-194F-4C95-B916-7D5E8B36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43D-DF59-45E9-8E6B-4677399F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2A5-18D2-43ED-B611-3CF9924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3CD9-309C-4975-AD77-6F295C169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8.jpeg"/><Relationship Id="rId5" Type="http://schemas.openxmlformats.org/officeDocument/2006/relationships/image" Target="../media/image31.jpeg"/><Relationship Id="rId6" Type="http://schemas.openxmlformats.org/officeDocument/2006/relationships/image" Target="../media/image30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3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20640"/>
            <a:ext cx="813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d4f3f"/>
                  </a:solidFill>
                  <a:miter/>
                </a:ln>
                <a:solidFill>
                  <a:srgbClr val="7575d1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ИВОТНЫЕ</a:t>
            </a:r>
            <a:endParaRPr b="1" i="1" lang="en-US" sz="1800" spc="1" strike="noStrike">
              <a:ln w="12600">
                <a:solidFill>
                  <a:srgbClr val="6d4f3f"/>
                </a:solidFill>
                <a:miter/>
              </a:ln>
              <a:solidFill>
                <a:srgbClr val="7575d1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d4f3f"/>
                  </a:solidFill>
                  <a:miter/>
                </a:ln>
                <a:solidFill>
                  <a:srgbClr val="7575d1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АРКИХ СТРАН</a:t>
            </a:r>
            <a:endParaRPr b="1" i="1" lang="en-US" sz="1800" spc="1" strike="noStrike">
              <a:ln w="12600">
                <a:solidFill>
                  <a:srgbClr val="6d4f3f"/>
                </a:solidFill>
                <a:miter/>
              </a:ln>
              <a:solidFill>
                <a:srgbClr val="7575d1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d4f3f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be836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6d4f3f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be8362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Чей горб у      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4437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верблюда верблюжий гор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верблюд"/>
          <p:cNvPicPr/>
          <p:nvPr/>
        </p:nvPicPr>
        <p:blipFill>
          <a:blip r:embed="rId1"/>
          <a:stretch/>
        </p:blipFill>
        <p:spPr>
          <a:xfrm>
            <a:off x="4572000" y="1773360"/>
            <a:ext cx="23036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Чей хобот у       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71640" y="43657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слона слоновий хобо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25"/>
          <p:cNvPicPr/>
          <p:nvPr/>
        </p:nvPicPr>
        <p:blipFill>
          <a:blip r:embed="rId1"/>
          <a:stretch/>
        </p:blipFill>
        <p:spPr>
          <a:xfrm>
            <a:off x="5003640" y="1916280"/>
            <a:ext cx="2376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24000" y="33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СЛОН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2484360" y="2205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41964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СЛОН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46560" y="6284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ЖИРАФ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79280" y="1052640"/>
            <a:ext cx="269892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У кого к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95280" y="62341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ЖИ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5508720" y="213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3203640" y="105264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58800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СЛОН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"/>
          <p:cNvSpPr/>
          <p:nvPr/>
        </p:nvSpPr>
        <p:spPr>
          <a:xfrm>
            <a:off x="2484360" y="508464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508720" y="5157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179280" y="3933720"/>
            <a:ext cx="269892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3203640" y="3933720"/>
            <a:ext cx="269856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6227640" y="3933720"/>
            <a:ext cx="2698920" cy="234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51528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ЖИРАФ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24000" y="33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ТИГ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2484360" y="2205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41964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ТИГР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564000" y="6284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ЬВ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79280" y="1052640"/>
            <a:ext cx="269892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У кого к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95280" y="62341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ЛЬ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5508720" y="213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203640" y="105264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58800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ТИГР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2484360" y="508464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5508720" y="5157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179280" y="3933720"/>
            <a:ext cx="269892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203640" y="3933720"/>
            <a:ext cx="269856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6156360" y="1052640"/>
            <a:ext cx="269856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227640" y="3933720"/>
            <a:ext cx="269892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665964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ЬВ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42920" y="335772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ВЕРБЛЮД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484360" y="2205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03640" y="342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ВЕРБЛЮЖ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346560" y="6284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КЕНГУР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79280" y="1052640"/>
            <a:ext cx="269892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У кого к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95280" y="62341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508720" y="213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203640" y="105264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30072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ВЕРБЛЮЖ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2484360" y="508464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5508720" y="5157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179280" y="3933720"/>
            <a:ext cx="269892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3203640" y="3933720"/>
            <a:ext cx="269856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6227640" y="3933720"/>
            <a:ext cx="2698920" cy="234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651528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КЕНГУР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с детьми животных жарких стран, их особенности, пов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ить какие животные хищные и травоя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детенышей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300720" y="3933720"/>
            <a:ext cx="251928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9640" y="3933720"/>
            <a:ext cx="251964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419640" y="3933720"/>
            <a:ext cx="251928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227640" y="1125360"/>
            <a:ext cx="251964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419640" y="1125360"/>
            <a:ext cx="251928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12720" y="1125360"/>
            <a:ext cx="251928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611280" y="189000"/>
            <a:ext cx="8137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Назови животных, котор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живут в жарки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25892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995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З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58800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ОБЕЗ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80400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О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1600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140360" y="6211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300720" y="3933720"/>
            <a:ext cx="251928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3933720"/>
            <a:ext cx="251964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419640" y="3933720"/>
            <a:ext cx="251928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227640" y="1125360"/>
            <a:ext cx="251964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419640" y="1125360"/>
            <a:ext cx="251928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11280" y="1125360"/>
            <a:ext cx="251928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684360" y="71280"/>
            <a:ext cx="81374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Назови животных, котор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живут в жарки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55640" y="3357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КРОКОД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995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БЕГЕ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58800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НОС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80400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11600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ЖИ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85128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8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26036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КРОКОД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332000" y="62848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НОС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5651640" y="1125360"/>
            <a:ext cx="269856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651640" y="400536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1"/>
          <p:cNvSpPr/>
          <p:nvPr/>
        </p:nvSpPr>
        <p:spPr>
          <a:xfrm>
            <a:off x="3635280" y="2205000"/>
            <a:ext cx="2016360" cy="647640"/>
          </a:xfrm>
          <a:prstGeom prst="rightArrow">
            <a:avLst>
              <a:gd name="adj1" fmla="val 50000"/>
              <a:gd name="adj2" fmla="val 77835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3708360" y="1963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796000" y="342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КРОКОД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3635280" y="4941720"/>
            <a:ext cx="2016360" cy="648000"/>
          </a:xfrm>
          <a:prstGeom prst="rightArrow">
            <a:avLst>
              <a:gd name="adj1" fmla="val 50000"/>
              <a:gd name="adj2" fmla="val 77792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37083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6084720" y="62848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НОСОР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971640" y="1125360"/>
            <a:ext cx="269856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900000" y="4005360"/>
            <a:ext cx="269892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8908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О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763640" y="623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651640" y="1125360"/>
            <a:ext cx="269856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651640" y="400536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635280" y="2205000"/>
            <a:ext cx="2016360" cy="647640"/>
          </a:xfrm>
          <a:prstGeom prst="rightArrow">
            <a:avLst>
              <a:gd name="adj1" fmla="val 50000"/>
              <a:gd name="adj2" fmla="val 77835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708360" y="1963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12000" y="342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ЕОПАР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3635280" y="4941720"/>
            <a:ext cx="2016360" cy="648000"/>
          </a:xfrm>
          <a:prstGeom prst="rightArrow">
            <a:avLst>
              <a:gd name="adj1" fmla="val 50000"/>
              <a:gd name="adj2" fmla="val 77792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7083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00720" y="623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Ь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971640" y="1125360"/>
            <a:ext cx="269856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936720" y="4005360"/>
            <a:ext cx="269856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11600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ОБЕЗ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32000" y="62848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З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651640" y="1125360"/>
            <a:ext cx="269856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651640" y="400536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635280" y="2205000"/>
            <a:ext cx="2016360" cy="647640"/>
          </a:xfrm>
          <a:prstGeom prst="rightArrow">
            <a:avLst>
              <a:gd name="adj1" fmla="val 50000"/>
              <a:gd name="adj2" fmla="val 77835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708360" y="1963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01200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ОБЕЗЬ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635280" y="4941720"/>
            <a:ext cx="2016360" cy="648000"/>
          </a:xfrm>
          <a:prstGeom prst="rightArrow">
            <a:avLst>
              <a:gd name="adj1" fmla="val 50000"/>
              <a:gd name="adj2" fmla="val 77792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7083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515280" y="623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ЗЕ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971640" y="1125360"/>
            <a:ext cx="269856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71640" y="4005360"/>
            <a:ext cx="269856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5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3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092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Какая грива у          ?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479736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льва львиная гри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лев"/>
          <p:cNvPicPr/>
          <p:nvPr/>
        </p:nvPicPr>
        <p:blipFill>
          <a:blip r:embed="rId1"/>
          <a:stretch/>
        </p:blipFill>
        <p:spPr>
          <a:xfrm>
            <a:off x="5003640" y="2492280"/>
            <a:ext cx="1873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Какая шея у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474660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жирафа жирафья ше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жираф"/>
          <p:cNvPicPr/>
          <p:nvPr/>
        </p:nvPicPr>
        <p:blipFill>
          <a:blip r:embed="rId1"/>
          <a:stretch/>
        </p:blipFill>
        <p:spPr>
          <a:xfrm>
            <a:off x="4788000" y="1557360"/>
            <a:ext cx="18493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Чей хвост у      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443700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обезьяны обезьяний хво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обезьяна - копия"/>
          <p:cNvPicPr/>
          <p:nvPr/>
        </p:nvPicPr>
        <p:blipFill>
          <a:blip r:embed="rId1"/>
          <a:stretch/>
        </p:blipFill>
        <p:spPr>
          <a:xfrm>
            <a:off x="5435640" y="1773360"/>
            <a:ext cx="163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8:03:58Z</dcterms:created>
  <dc:creator>Ирина</dc:creator>
  <dc:description/>
  <dc:language>en-US</dc:language>
  <cp:lastModifiedBy>Tatyana Alabina</cp:lastModifiedBy>
  <dcterms:modified xsi:type="dcterms:W3CDTF">2020-03-24T09:37:53Z</dcterms:modified>
  <cp:revision>25</cp:revision>
  <dc:subject/>
  <dc:title>Слайд 1</dc:title>
</cp:coreProperties>
</file>