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gif" ContentType="image/gif"/>
  <Override PartName="/ppt/media/image3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5.gif" ContentType="image/gif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7.gif" ContentType="image/gif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54B-E42C-4569-AAAA-4E825554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D1A-5E52-4B58-BC71-29BE2F8C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A60-4231-4AD6-9CDB-59B491A4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EE8-522D-4B15-BE51-7D586953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783-920F-43DF-90AD-934ACEE1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3D7-DD20-4F47-9FD0-42AAF3B0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05A-411C-4E02-AED2-071CD97B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07C-2918-4AC5-A5C6-81D370F1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D7B-4FB6-4406-9BEC-CD5D4A82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AF8-2C2D-4A02-B1B2-559BFD74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98D-485B-404C-8F23-F831246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4C5-5918-423C-8267-6572A913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27EB-3B92-44D7-AC8F-97E4C4B64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8.jpeg"/><Relationship Id="rId5" Type="http://schemas.openxmlformats.org/officeDocument/2006/relationships/image" Target="../media/image31.jpeg"/><Relationship Id="rId6" Type="http://schemas.openxmlformats.org/officeDocument/2006/relationships/image" Target="../media/image30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3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620640"/>
            <a:ext cx="813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d4f3f"/>
                  </a:solidFill>
                  <a:miter/>
                </a:ln>
                <a:solidFill>
                  <a:srgbClr val="7575d1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ЖИВОТНЫЕ</a:t>
            </a:r>
            <a:endParaRPr b="1" i="1" lang="en-US" sz="1800" spc="1" strike="noStrike">
              <a:ln w="12600">
                <a:solidFill>
                  <a:srgbClr val="6d4f3f"/>
                </a:solidFill>
                <a:miter/>
              </a:ln>
              <a:solidFill>
                <a:srgbClr val="7575d1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6d4f3f"/>
                  </a:solidFill>
                  <a:miter/>
                </a:ln>
                <a:solidFill>
                  <a:srgbClr val="7575d1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ЖАРКИХ СТРАН</a:t>
            </a:r>
            <a:endParaRPr b="1" i="1" lang="en-US" sz="1800" spc="1" strike="noStrike">
              <a:ln w="12600">
                <a:solidFill>
                  <a:srgbClr val="6d4f3f"/>
                </a:solidFill>
                <a:miter/>
              </a:ln>
              <a:solidFill>
                <a:srgbClr val="7575d1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d4f3f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100000">
                      <a:srgbClr val="be836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6d4f3f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100000">
                    <a:srgbClr val="be8362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4620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Чей горб у             ?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4437000"/>
            <a:ext cx="882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верблюда верблюжий горб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верблюд"/>
          <p:cNvPicPr/>
          <p:nvPr/>
        </p:nvPicPr>
        <p:blipFill>
          <a:blip r:embed="rId1"/>
          <a:stretch/>
        </p:blipFill>
        <p:spPr>
          <a:xfrm>
            <a:off x="4572000" y="1773360"/>
            <a:ext cx="23036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4620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Чей хобот у              ?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971640" y="436572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слона слоновий хобо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25"/>
          <p:cNvPicPr/>
          <p:nvPr/>
        </p:nvPicPr>
        <p:blipFill>
          <a:blip r:embed="rId1"/>
          <a:stretch/>
        </p:blipFill>
        <p:spPr>
          <a:xfrm>
            <a:off x="5003640" y="1916280"/>
            <a:ext cx="23767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24000" y="33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СЛОНИ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2484360" y="2205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41964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СЛОН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346560" y="6284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ЖИРАФ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79280" y="1052640"/>
            <a:ext cx="269892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У кого к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395280" y="62341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ЖИРА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5508720" y="2133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3203640" y="105264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6227640" y="1052640"/>
            <a:ext cx="269892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58800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СЛОН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"/>
          <p:cNvSpPr/>
          <p:nvPr/>
        </p:nvSpPr>
        <p:spPr>
          <a:xfrm>
            <a:off x="2484360" y="508464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508720" y="5157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5"/>
          <p:cNvSpPr/>
          <p:nvPr/>
        </p:nvSpPr>
        <p:spPr>
          <a:xfrm>
            <a:off x="179280" y="3933720"/>
            <a:ext cx="269892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3203640" y="3933720"/>
            <a:ext cx="269856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6227640" y="1052640"/>
            <a:ext cx="269892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6227640" y="3933720"/>
            <a:ext cx="2698920" cy="2340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515280" y="623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ЖИРАФ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24000" y="33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ТИГ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2484360" y="2205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41964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ТИГР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564000" y="6284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ЛЬВ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79280" y="1052640"/>
            <a:ext cx="269892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У кого к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95280" y="62341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ЛЬВ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5508720" y="2133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203640" y="105264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58800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ТИГР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>
            <a:off x="2484360" y="508464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5508720" y="5157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179280" y="3933720"/>
            <a:ext cx="269892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203640" y="3933720"/>
            <a:ext cx="269856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6156360" y="1052640"/>
            <a:ext cx="269856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227640" y="3933720"/>
            <a:ext cx="269892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6659640" y="623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ЛЬВ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42920" y="335772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ВЕРБЛЮД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484360" y="2205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03640" y="342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ВЕРБЛЮЖ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346560" y="6284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КЕНГУРЁ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79280" y="1052640"/>
            <a:ext cx="269892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У кого к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95280" y="62341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9362b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 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508720" y="2133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203640" y="105264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6227640" y="1052640"/>
            <a:ext cx="269892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300720" y="3429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ВЕРБЛЮЖ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2484360" y="508464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5508720" y="515772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179280" y="3933720"/>
            <a:ext cx="269892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3203640" y="3933720"/>
            <a:ext cx="269856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6227640" y="1052640"/>
            <a:ext cx="269892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6227640" y="3933720"/>
            <a:ext cx="2698920" cy="2340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6515280" y="623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КЕНГУР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ь с детьми животных жарких стран, их особенности, повад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ить какие животные хищные и травоя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детенышей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300720" y="3933720"/>
            <a:ext cx="251928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9640" y="3933720"/>
            <a:ext cx="251964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419640" y="3933720"/>
            <a:ext cx="251928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227640" y="1125360"/>
            <a:ext cx="251964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419640" y="1125360"/>
            <a:ext cx="251928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12720" y="1125360"/>
            <a:ext cx="251928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611280" y="189000"/>
            <a:ext cx="8137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Назови животных, котор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живут в жарки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25892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99564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З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658800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ОБЕЗ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804000" y="6165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ЛЕОП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16000" y="6211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Т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140360" y="6211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300720" y="3933720"/>
            <a:ext cx="251928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3933720"/>
            <a:ext cx="251964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419640" y="3933720"/>
            <a:ext cx="251928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227640" y="1125360"/>
            <a:ext cx="251964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419640" y="1125360"/>
            <a:ext cx="2519280" cy="23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11280" y="1125360"/>
            <a:ext cx="2519280" cy="23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684360" y="71280"/>
            <a:ext cx="81374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Назови животных, котор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живут в жарки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55640" y="3357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КРОКОД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99564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БЕГЕМ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588000" y="3357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НОС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804000" y="6211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116000" y="6211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ЖИ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851280" y="6211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ВЕР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8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260360" y="342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КРОКОД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332000" y="62848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НОСО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5651640" y="1125360"/>
            <a:ext cx="269856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651640" y="400536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1"/>
          <p:cNvSpPr/>
          <p:nvPr/>
        </p:nvSpPr>
        <p:spPr>
          <a:xfrm>
            <a:off x="3635280" y="2205000"/>
            <a:ext cx="2016360" cy="647640"/>
          </a:xfrm>
          <a:prstGeom prst="rightArrow">
            <a:avLst>
              <a:gd name="adj1" fmla="val 50000"/>
              <a:gd name="adj2" fmla="val 77835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3708360" y="1963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796000" y="342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КРОКОДИ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3635280" y="4941720"/>
            <a:ext cx="2016360" cy="648000"/>
          </a:xfrm>
          <a:prstGeom prst="rightArrow">
            <a:avLst>
              <a:gd name="adj1" fmla="val 50000"/>
              <a:gd name="adj2" fmla="val 77792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370836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6084720" y="62848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НОСОР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9"/>
          <p:cNvSpPr/>
          <p:nvPr/>
        </p:nvSpPr>
        <p:spPr>
          <a:xfrm>
            <a:off x="971640" y="1125360"/>
            <a:ext cx="269856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900000" y="4005360"/>
            <a:ext cx="269892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189080" y="342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ЛЕОП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763640" y="623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651640" y="1125360"/>
            <a:ext cx="269856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5651640" y="400536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635280" y="2205000"/>
            <a:ext cx="2016360" cy="647640"/>
          </a:xfrm>
          <a:prstGeom prst="rightArrow">
            <a:avLst>
              <a:gd name="adj1" fmla="val 50000"/>
              <a:gd name="adj2" fmla="val 77835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708360" y="1963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12000" y="342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ЛЕОПАР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3635280" y="4941720"/>
            <a:ext cx="2016360" cy="648000"/>
          </a:xfrm>
          <a:prstGeom prst="rightArrow">
            <a:avLst>
              <a:gd name="adj1" fmla="val 50000"/>
              <a:gd name="adj2" fmla="val 77792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70836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00720" y="623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ЛЬ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971640" y="1125360"/>
            <a:ext cx="269856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936720" y="4005360"/>
            <a:ext cx="269856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5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116000" y="3429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ОБЕЗ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32000" y="62848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362b"/>
                </a:solidFill>
                <a:latin typeface="Arial"/>
              </a:rPr>
              <a:t>З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651640" y="1125360"/>
            <a:ext cx="2698560" cy="23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651640" y="4005360"/>
            <a:ext cx="2698560" cy="2340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635280" y="2205000"/>
            <a:ext cx="2016360" cy="647640"/>
          </a:xfrm>
          <a:prstGeom prst="rightArrow">
            <a:avLst>
              <a:gd name="adj1" fmla="val 50000"/>
              <a:gd name="adj2" fmla="val 77835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708360" y="1963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012000" y="342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ОБЕЗЬ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3635280" y="4941720"/>
            <a:ext cx="2016360" cy="648000"/>
          </a:xfrm>
          <a:prstGeom prst="rightArrow">
            <a:avLst>
              <a:gd name="adj1" fmla="val 50000"/>
              <a:gd name="adj2" fmla="val 77792"/>
            </a:avLst>
          </a:pr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9360">
            <a:solidFill>
              <a:srgbClr val="be8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708360" y="47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6515280" y="6237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42716"/>
                </a:solidFill>
                <a:latin typeface="Arial"/>
              </a:rPr>
              <a:t>ЗЕ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971640" y="1125360"/>
            <a:ext cx="2698560" cy="2340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71640" y="4005360"/>
            <a:ext cx="2698560" cy="234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5"/>
          <p:cNvSpPr txBox="1"/>
          <p:nvPr/>
        </p:nvSpPr>
        <p:spPr>
          <a:xfrm>
            <a:off x="468360" y="189000"/>
            <a:ext cx="82803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3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092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Какая грива у          ?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39640" y="4797360"/>
            <a:ext cx="86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льва львиная гри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лев"/>
          <p:cNvPicPr/>
          <p:nvPr/>
        </p:nvPicPr>
        <p:blipFill>
          <a:blip r:embed="rId1"/>
          <a:stretch/>
        </p:blipFill>
        <p:spPr>
          <a:xfrm>
            <a:off x="5003640" y="2492280"/>
            <a:ext cx="1873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4620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Какая шея у       ?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4000" y="474660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жирафа жирафья ше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жираф"/>
          <p:cNvPicPr/>
          <p:nvPr/>
        </p:nvPicPr>
        <p:blipFill>
          <a:blip r:embed="rId1"/>
          <a:stretch/>
        </p:blipFill>
        <p:spPr>
          <a:xfrm>
            <a:off x="4788000" y="1557360"/>
            <a:ext cx="18493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468360" y="404640"/>
            <a:ext cx="792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8362"/>
                    </a:gs>
                    <a:gs pos="100000">
                      <a:srgbClr val="6d4f3f"/>
                    </a:gs>
                  </a:gsLst>
                  <a:lin ang="2700000"/>
                </a:gradFill>
                <a:latin typeface="Arial"/>
              </a:rPr>
              <a:t>Дидактическая игра "Чьё это?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8362"/>
                  </a:gs>
                  <a:gs pos="100000">
                    <a:srgbClr val="6d4f3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46200" y="2708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1f1f"/>
                </a:solidFill>
                <a:latin typeface="Arial"/>
              </a:rPr>
              <a:t>Чей хвост у             ?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4437000"/>
            <a:ext cx="81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42716"/>
                </a:solidFill>
                <a:latin typeface="Arial"/>
              </a:rPr>
              <a:t>У обезьяны обезьяний хвос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обезьяна - копия"/>
          <p:cNvPicPr/>
          <p:nvPr/>
        </p:nvPicPr>
        <p:blipFill>
          <a:blip r:embed="rId1"/>
          <a:stretch/>
        </p:blipFill>
        <p:spPr>
          <a:xfrm>
            <a:off x="5435640" y="1773360"/>
            <a:ext cx="163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8:03:58Z</dcterms:created>
  <dc:creator>Ирина</dc:creator>
  <dc:description/>
  <dc:language>en-US</dc:language>
  <cp:lastModifiedBy>Tatyana Alabina</cp:lastModifiedBy>
  <dcterms:modified xsi:type="dcterms:W3CDTF">2020-03-24T09:37:53Z</dcterms:modified>
  <cp:revision>25</cp:revision>
  <dc:subject/>
  <dc:title>Слайд 1</dc:title>
</cp:coreProperties>
</file>